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173-2550-4774-A520-3EB644BC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682-5A01-4510-BDC1-8A1B19B7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FB9-7D45-4492-A414-AA681CE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0E3-7993-46EC-83C7-B32B7B8C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4E1-3437-469C-9C5D-525176D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8E6-A6DA-452F-87FA-80FF84C2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992-FA11-4863-AA71-14767FA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44D-F1A5-4DF2-9949-AE92FA26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6A8-A0E3-4545-8334-E969BE67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C78-3B73-4B68-B25F-08AAD36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910-C46E-4F56-A8FC-5E7D9AB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ED4-83B3-480A-956D-F8DDA7F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AC2-A478-465E-B883-CBDA5742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 on Senses and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0" y="1959120"/>
          <a:ext cx="872172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9120"/>
                    <a:ext cx="8721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7"/>
          <p:cNvSpPr/>
          <p:nvPr/>
        </p:nvSpPr>
        <p:spPr>
          <a:xfrm>
            <a:off x="3295440" y="47498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161440" y="2895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312408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27432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77680" y="15238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350532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505320" y="16002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19240" y="12762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733920" y="2514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290480" y="22860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Rat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609480" y="1219320"/>
          <a:ext cx="80089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89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6"/>
          <p:cNvSpPr/>
          <p:nvPr/>
        </p:nvSpPr>
        <p:spPr>
          <a:xfrm rot="19003200">
            <a:off x="465120" y="55195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19193400">
            <a:off x="1650960" y="54860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8897600">
            <a:off x="2918160" y="54860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 rot="18997200">
            <a:off x="3891600" y="559512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8685800">
            <a:off x="5424120" y="54846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 rot="18636000">
            <a:off x="6668640" y="532260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7:37:36Z</dcterms:created>
  <dc:creator>pc</dc:creator>
  <dc:description/>
  <dc:language>en-US</dc:language>
  <cp:lastModifiedBy>msu-iit</cp:lastModifiedBy>
  <dcterms:modified xsi:type="dcterms:W3CDTF">2011-06-28T03:04:01Z</dcterms:modified>
  <cp:revision>83</cp:revision>
  <dc:subject/>
  <dc:title>Barriers to Communication</dc:title>
</cp:coreProperties>
</file>